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E79-B5E0-46F4-B111-1F4553C5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25F-2FCE-444A-92A6-22DB0CF9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CDE-B4EB-4269-9848-00A966BE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7BE-11D8-44BF-8F90-6E5FC49F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994-A191-47F6-94D6-DE4E4A9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CE4-1F22-497F-9EB4-4982978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A4F-85AB-424D-AACE-5638B640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D02-B2BE-4AEB-B553-8B56D22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CBB-A92E-45B0-8355-75F237BA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458-FA2D-4249-BDE9-CF587E16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C0E-E238-43C2-96FF-B0BA0B3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482-3FA1-4F90-B5E2-DAEF9B6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80E-9CD2-4634-A3EC-9330B797EA9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ED7-DFB6-4319-8610-96671705F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743200" cy="671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2727360" y="6019920"/>
            <a:ext cx="3978360" cy="731880"/>
            <a:chOff x="2727360" y="6019920"/>
            <a:chExt cx="3978360" cy="731880"/>
          </a:xfrm>
        </p:grpSpPr>
        <p:pic>
          <p:nvPicPr>
            <p:cNvPr id="43" name="Picture 2" descr="C:\Users\odhiamba\Documents\1.Templates\Logo\Short-GEF logo colored NOTAG transparent.png"/>
            <p:cNvPicPr/>
            <p:nvPr/>
          </p:nvPicPr>
          <p:blipFill>
            <a:blip r:embed="rId3"/>
            <a:stretch/>
          </p:blipFill>
          <p:spPr>
            <a:xfrm>
              <a:off x="2727360" y="6019920"/>
              <a:ext cx="6256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odhiamba\Documents\1.Templates\Logo\UNEPBlue logo.jpg"/>
            <p:cNvPicPr/>
            <p:nvPr/>
          </p:nvPicPr>
          <p:blipFill>
            <a:blip r:embed="rId4"/>
            <a:stretch/>
          </p:blipFill>
          <p:spPr>
            <a:xfrm>
              <a:off x="3508560" y="6019920"/>
              <a:ext cx="6822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C:\Users\odhiamba\Documents\1.Templates\Logo\Logo_UNIDO.svg.png"/>
            <p:cNvPicPr/>
            <p:nvPr/>
          </p:nvPicPr>
          <p:blipFill>
            <a:blip r:embed="rId5"/>
            <a:stretch/>
          </p:blipFill>
          <p:spPr>
            <a:xfrm>
              <a:off x="4434480" y="6019920"/>
              <a:ext cx="827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C:\Users\odhiamba\Documents\1.Templates\Logo\UNWTO Logo.jpg"/>
            <p:cNvPicPr/>
            <p:nvPr/>
          </p:nvPicPr>
          <p:blipFill>
            <a:blip r:embed="rId6"/>
            <a:stretch/>
          </p:blipFill>
          <p:spPr>
            <a:xfrm>
              <a:off x="5349240" y="6019920"/>
              <a:ext cx="135648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.Bernaudat@unido.org" TargetMode="External"/><Relationship Id="rId2" Type="http://schemas.openxmlformats.org/officeDocument/2006/relationships/hyperlink" Target="mailto:M.Pinto-Rodrigues@unido.org" TargetMode="External"/><Relationship Id="rId3" Type="http://schemas.openxmlformats.org/officeDocument/2006/relationships/hyperlink" Target="mailto:H.Garcia@unido.org" TargetMode="External"/><Relationship Id="rId4" Type="http://schemas.openxmlformats.org/officeDocument/2006/relationships/hyperlink" Target="mailto:Y.Cachu@unido.or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EERING COMMITTEE MEETING</a:t>
            </a:r>
            <a:br>
              <a:rPr sz="24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Bagamoyo, Tanzania </a:t>
            </a:r>
            <a:br>
              <a:rPr sz="18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24-27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  <a:ea typeface="Arial"/>
              </a:rPr>
              <a:t>September, 2013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</a:t>
            </a:r>
            <a:br>
              <a:rPr sz="2800"/>
            </a:b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Arial"/>
              </a:rPr>
              <a:t>UNIDO TEST Methodology Implementation</a:t>
            </a: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OVERVIEW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enya, Mozambique, Senegal, Tanzania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SCM Day 2: 25 September 2013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COAST Logframe 2012.jpg"/>
          <p:cNvPicPr/>
          <p:nvPr/>
        </p:nvPicPr>
        <p:blipFill>
          <a:blip r:embed="rId1"/>
          <a:stretch/>
        </p:blipFill>
        <p:spPr>
          <a:xfrm>
            <a:off x="914400" y="152280"/>
            <a:ext cx="6730920" cy="6629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8" name="Oval 4"/>
          <p:cNvSpPr/>
          <p:nvPr/>
        </p:nvSpPr>
        <p:spPr>
          <a:xfrm>
            <a:off x="3048120" y="2666880"/>
            <a:ext cx="243828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209680"/>
            <a:ext cx="827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Watamu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Inhambane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aly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Bagamoyo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COAST Project </a:t>
            </a:r>
            <a:br>
              <a:rPr sz="2400"/>
            </a:b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676520"/>
            <a:ext cx="85042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MS Thematic Area applies the UNIDO Transf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nvironmentally Sound Technology (TEST) Methodolog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ST training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d across the EMS countrie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vember/December 20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hotel sector, DPC and 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 TEST Methodology was developed by UNIDO in the year 2000 and has since been successfully applied to developing and transition economy countrie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med at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mproving Environmental Management and Competitiven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anies &amp; industries in developing and transition econo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0960" y="990720"/>
            <a:ext cx="87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Overview 5 TEST Management Tools being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1447920"/>
            <a:ext cx="86104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EST consists in introduc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5 Management Tools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t company/industry level with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im to change the management practices in a holisti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manner in ord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 ensure the sustainable introduction of green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 CP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ner Productio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EM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 EM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 ES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ly Sou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 CS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0960" y="990720"/>
            <a:ext cx="87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verview of application of 5 TEST Management Tools across the 4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828800"/>
            <a:ext cx="861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731960"/>
          <a:ext cx="8616960" cy="41353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1447920"/>
                <a:gridCol w="1295280"/>
                <a:gridCol w="1143000"/>
                <a:gridCol w="2368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1</a:t>
                      </a:r>
                      <a:r>
                        <a:rPr b="0" lang="de-AT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Exp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Cost  and Low Cost“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3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systems of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5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d internal and external 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2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ction of wa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4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/ Private-Public Partne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community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06668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Example from Brazil to demonstrate how we expect results to be portrayed at the end of the TEST implementation in 2014</a:t>
            </a:r>
            <a:br>
              <a:rPr sz="20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opical Hotel Tambau, Joao Pessoa, Paraiba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3 guest rooms, convention center, meeting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438280"/>
          <a:ext cx="8763120" cy="4343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1463760"/>
                <a:gridCol w="1460520"/>
                <a:gridCol w="23828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r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/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back 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materials, ener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it/y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water flow reducers in the show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0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low-flow water ta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,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6 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energy saving devices in the roo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,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,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72 kW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entire hotel electricity consumption per year is 2.052.280 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1905120"/>
            <a:ext cx="8504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nancial Sav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benefits: Contributes to lower pollutions and to saving water, waste, energy and non renewable resour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 tool to assist managers to be more strategic in planning and oper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ntrol costs and manage risks through the identification of liabilities and weaknes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wer utility costs by assessing the cost savings by BAP/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 in the image of the Hotel and its competi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 in Staff Mo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for the local commu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Keep ahead of impending legislations and other regulation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mmary  on BENEFITs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implementing TEST in the Hote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324000" y="2362320"/>
            <a:ext cx="835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O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TEST TRAINING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Ludovic Bernau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.Bernaudat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Marla McCarroll Pinto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M.Pinto-Rodrigues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Harvey G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.Garcia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Yolanda Cachú (EMA exp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Y.Cachu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1676520" y="1981080"/>
            <a:ext cx="2743200" cy="6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5:04Z</dcterms:created>
  <dc:creator>Gibbon 2011</dc:creator>
  <dc:description/>
  <dc:language>en-US</dc:language>
  <cp:lastModifiedBy>User</cp:lastModifiedBy>
  <dcterms:modified xsi:type="dcterms:W3CDTF">2013-09-23T12:43:25Z</dcterms:modified>
  <cp:revision>512</cp:revision>
  <dc:subject/>
  <dc:title>Slide 1</dc:title>
</cp:coreProperties>
</file>